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E8E0-7BF2-4EC8-AAE9-850BFDE7A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Hope Diamond from: http://mineralsciences.si.edu/hop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thyst image from: http://community.mis.temple.edu/gemstones/2014/02/27/amethys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ckwi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ed diamonds image from: http://www.maxsecuritas.co.uk/coloured-diamond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pphire image from: http://www.navneetgems.com/Blue-Sapph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ald image from: http://en.wikipedia.org/wiki/Emer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by image from: http://en.wikipedia.org/wiki/Ru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A978-8073-451B-8809-7AF53ED96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BBFB-94C4-48AE-A3F0-46C03E08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098A-01CA-4F97-85E0-1900612F9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8E1F-5BEF-451D-9497-D498EC8C7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7D97-4E69-4134-8A7D-965BB98F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7E8F-A4CA-4184-B49C-B2B4C789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55FE-E72F-4248-BA12-247A2063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CACB-B28A-4C98-A60B-68CA5754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575C-FBB6-452A-A642-00E970B8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85A0-C36A-4552-B7F7-A1354CE6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CF7D-A5CE-4595-87DA-287F1A09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D833-74CF-409C-990B-A00BB961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A712-BC9B-4F45-A75B-470F9A66F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use physical properties and chemical properties to describe and sometimes identify sub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8320" y="2800440"/>
            <a:ext cx="38098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observed or measured without forming a new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state (solid, liquid, g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stre (shiny or du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tleness (breakabi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Propertie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leability (flexibi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bility (if it dissolves in another sub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physical properties of these gem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95440" y="4114800"/>
            <a:ext cx="1886040" cy="2514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486400" y="19810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425920" y="4572000"/>
            <a:ext cx="2635560" cy="1981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079640" y="1981080"/>
            <a:ext cx="26413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properties that we c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called qualit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 physical state, odour, colour, texture, lustre, hardness, brittleness, malle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ntit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properties that we c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called quantit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 mass, volume, density, temperature, melting point, boil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6T10:50:36Z</dcterms:created>
  <dc:creator>rubina khan</dc:creator>
  <dc:description/>
  <dc:language>en-US</dc:language>
  <cp:lastModifiedBy>rubina khan</cp:lastModifiedBy>
  <dcterms:modified xsi:type="dcterms:W3CDTF">2014-11-26T11:10:45Z</dcterms:modified>
  <cp:revision>23</cp:revision>
  <dc:subject/>
  <dc:title>Physical Properties</dc:title>
</cp:coreProperties>
</file>